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2B7-B3F0-4FDA-9D2C-E8889FAC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ED2-0F91-44B8-95BA-6C5DFFC6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EEF-B6EB-43D8-B573-B042C7DA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E57-25DF-4450-9C4C-3BA7CC80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B0F-9209-4F63-A9E9-0AB15EEF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54A-12E6-4C86-8026-A0F3152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2F9-7812-413F-8CF6-3BC277BE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78A-2A54-40CD-AB5B-4583B37C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47B-AEF7-45AC-8263-3CE30873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010-7750-4052-A5F6-76172B8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9F4-26BD-4EDB-A0B4-F80061D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CD0-9496-4F29-9DB8-C50812D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2D2-939F-4553-8266-FAF90CAF9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ece pl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2438280" y="2743200"/>
            <a:ext cx="4257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1.gstatic.com/images?q=tbn:ANd9GcTdGDG3ctNv2TLXnqmmO1hG-FUjvJykfKsU537wKRGh7qjRxqaMjA"/>
          <p:cNvPicPr/>
          <p:nvPr/>
        </p:nvPicPr>
        <p:blipFill>
          <a:blip r:embed="rId1"/>
          <a:stretch/>
        </p:blipFill>
        <p:spPr>
          <a:xfrm>
            <a:off x="3276720" y="3124080"/>
            <a:ext cx="1866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t3.gstatic.com/images?q=tbn:ANd9GcTL0Bwvv86KXALrRdTCKL27b6CFKBfBlPyiiYC5jkPVbExAIsrE"/>
          <p:cNvPicPr/>
          <p:nvPr/>
        </p:nvPicPr>
        <p:blipFill>
          <a:blip r:embed="rId1"/>
          <a:stretch/>
        </p:blipFill>
        <p:spPr>
          <a:xfrm>
            <a:off x="335268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2895480" y="3352680"/>
            <a:ext cx="3009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1828800" y="2666880"/>
            <a:ext cx="5629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3048120" y="35812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t0.gstatic.com/images?q=tbn:ANd9GcQkKIPX_D3IZFd0TMJePcqZZPMyRy78aoBvtU2LPopRwcN32LXQ5w"/>
          <p:cNvPicPr/>
          <p:nvPr/>
        </p:nvPicPr>
        <p:blipFill>
          <a:blip r:embed="rId1"/>
          <a:stretch/>
        </p:blipFill>
        <p:spPr>
          <a:xfrm>
            <a:off x="3048120" y="31240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://novaroma.org/vici/images/Greekcityscene.jpg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3809880" y="3124080"/>
            <a:ext cx="15811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t1.gstatic.com/images?q=tbn:ANd9GcRAUAdRrSfXSAEchPPIDUVaqovKW_RBC_QPfaP3NPUatFi2Nu5scg"/>
          <p:cNvPicPr/>
          <p:nvPr/>
        </p:nvPicPr>
        <p:blipFill>
          <a:blip r:embed="rId1"/>
          <a:stretch/>
        </p:blipFill>
        <p:spPr>
          <a:xfrm>
            <a:off x="2209680" y="3200400"/>
            <a:ext cx="48484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t1.gstatic.com/images?q=tbn:ANd9GcRLNKbz_Eo6UnUh7H9iFScxwxtkfyYLdRhZzT9bjYoqj0KdkpEh"/>
          <p:cNvPicPr/>
          <p:nvPr/>
        </p:nvPicPr>
        <p:blipFill>
          <a:blip r:embed="rId1"/>
          <a:stretch/>
        </p:blipFill>
        <p:spPr>
          <a:xfrm>
            <a:off x="3429000" y="3352680"/>
            <a:ext cx="23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http://www.usu.edu/markdamen/ClasDram/images/01/theatron.jpg"/>
          <p:cNvPicPr/>
          <p:nvPr/>
        </p:nvPicPr>
        <p:blipFill>
          <a:blip r:embed="rId1"/>
          <a:stretch/>
        </p:blipFill>
        <p:spPr>
          <a:xfrm>
            <a:off x="1676520" y="2743200"/>
            <a:ext cx="52578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t2.gstatic.com/images?q=tbn:ANd9GcQgTIby05agkbKD3qXd7oRu-o0TiZIyGgUtoazgn9pu9eI2pPhH7w"/>
          <p:cNvPicPr/>
          <p:nvPr/>
        </p:nvPicPr>
        <p:blipFill>
          <a:blip r:embed="rId1"/>
          <a:stretch/>
        </p:blipFill>
        <p:spPr>
          <a:xfrm>
            <a:off x="3886200" y="3276720"/>
            <a:ext cx="2143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30:44Z</dcterms:modified>
  <cp:revision>93</cp:revision>
  <dc:subject/>
  <dc:title>Ancient Greece</dc:title>
</cp:coreProperties>
</file>